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0DA-D508-4CCA-BACA-EC7C485E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DD5-6795-49F0-86CC-C86AD936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6D7-B4C7-48EE-AEF9-6BF202B2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51E-FA30-4A01-9774-C6B24B7A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1A9-E25E-4090-81BC-8ACA039A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8DB-507C-47D0-A35D-A36A1651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007-2C67-4337-9BD7-1BF82A95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780-E637-4E85-A618-278383F1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4F8-5105-438E-831F-B37D75AF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060-EC48-4FF9-A4DF-714B5753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38B-FE23-48B1-923B-AE4F73ED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89B-91D0-4AD7-9E8C-B343D8C1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754A-C632-4823-8748-503AA3F8E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065" t="30211" r="15704" b="35419"/>
          <a:stretch/>
        </p:blipFill>
        <p:spPr>
          <a:xfrm>
            <a:off x="0" y="1176480"/>
            <a:ext cx="9144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9:00:03Z</dcterms:created>
  <dc:creator>Patrick J. Mooney</dc:creator>
  <dc:description/>
  <dc:language>en-US</dc:language>
  <cp:lastModifiedBy>Patrick J. Mooney</cp:lastModifiedBy>
  <dcterms:modified xsi:type="dcterms:W3CDTF">2010-11-03T19:43:15Z</dcterms:modified>
  <cp:revision>3</cp:revision>
  <dc:subject/>
  <dc:title>Slide 1</dc:title>
</cp:coreProperties>
</file>